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C0C-E824-480C-B3D6-00A54C695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 1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ESL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f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gh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net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e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625-88C1-45BE-980F-B0B7BF87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2562-BEB6-4BEE-BB08-2011CD47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1FC-C30D-4412-8DDF-F68CD217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488-C6CF-4240-8F34-D64DBF5D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D6C-5F9B-4284-8729-5F2B2B92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3BF-D208-4F77-8850-BF1F9DC1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A17-49F5-407D-88B7-A18F8B15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3A8A-7014-4A2A-813C-DA5D17B1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E04-8DCB-4C2B-B058-E2307778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937-1A1F-40DA-94FC-DEC8F08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A9C4-93AA-4A73-92E6-E755C7A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8E1D-ADC2-42A7-9C05-547FF8FA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6F24-3551-4345-BB6A-3F8CBA624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609480" y="2362320"/>
            <a:ext cx="7972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umbers 1-20</a:t>
            </a:r>
            <a:endParaRPr b="0" lang="en-US" sz="66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362320" y="4648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</a:rPr>
              <a:t>BEGINNING ESL LESSON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0" descr="MCj02907090000[1]"/>
          <p:cNvPicPr/>
          <p:nvPr/>
        </p:nvPicPr>
        <p:blipFill>
          <a:blip r:embed="rId1"/>
          <a:stretch/>
        </p:blipFill>
        <p:spPr>
          <a:xfrm>
            <a:off x="6121440" y="304920"/>
            <a:ext cx="2031840" cy="1969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5909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251460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34324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4"/>
          <p:cNvSpPr txBox="1"/>
          <p:nvPr/>
        </p:nvSpPr>
        <p:spPr>
          <a:xfrm>
            <a:off x="2343240" y="1981080"/>
            <a:ext cx="45147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l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2362320" y="1981080"/>
            <a:ext cx="45910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l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2133720" y="2057400"/>
            <a:ext cx="49719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i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2209680" y="1981080"/>
            <a:ext cx="48960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2209680" y="205740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f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2209680" y="1981080"/>
            <a:ext cx="4419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3"/>
          <p:cNvSpPr txBox="1"/>
          <p:nvPr/>
        </p:nvSpPr>
        <p:spPr>
          <a:xfrm>
            <a:off x="2133720" y="1905120"/>
            <a:ext cx="49719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352680" y="1752480"/>
            <a:ext cx="27432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zer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3"/>
          <p:cNvSpPr txBox="1"/>
          <p:nvPr/>
        </p:nvSpPr>
        <p:spPr>
          <a:xfrm>
            <a:off x="2286000" y="2171880"/>
            <a:ext cx="459108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igh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2495520" y="205740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ninete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3"/>
          <p:cNvSpPr txBox="1"/>
          <p:nvPr/>
        </p:nvSpPr>
        <p:spPr>
          <a:xfrm>
            <a:off x="24955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enty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4"/>
          <p:cNvSpPr txBox="1"/>
          <p:nvPr/>
        </p:nvSpPr>
        <p:spPr>
          <a:xfrm>
            <a:off x="2590920" y="2171880"/>
            <a:ext cx="40575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e End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3276720" y="1866960"/>
            <a:ext cx="2743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n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4"/>
          <p:cNvSpPr txBox="1"/>
          <p:nvPr/>
        </p:nvSpPr>
        <p:spPr>
          <a:xfrm>
            <a:off x="2666880" y="209556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wo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thre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2666880" y="2057400"/>
            <a:ext cx="40579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ur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ive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2666880" y="2133720"/>
            <a:ext cx="40579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ix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590920" y="1981080"/>
            <a:ext cx="40575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even</a:t>
            </a:r>
            <a:endParaRPr b="0" lang="en-US" sz="80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05:44:33Z</dcterms:created>
  <dc:creator>Christina Niven</dc:creator>
  <dc:description/>
  <dc:language>en-US</dc:language>
  <cp:lastModifiedBy>LEGION</cp:lastModifiedBy>
  <dcterms:modified xsi:type="dcterms:W3CDTF">2017-07-06T06:36:18Z</dcterms:modified>
  <cp:revision>79</cp:revision>
  <dc:subject/>
  <dc:title>Sunday</dc:title>
</cp:coreProperties>
</file>